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824-6CCC-4C73-A1C7-0D3BDD45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8C4-3479-4D24-9C08-C2AA9C3CC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D60-3148-4401-B34E-46B16168B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869-A184-47DE-AB22-DB1156E6D2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A6B0-24A9-4F81-9F65-3FEC68342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1807-9E3C-4382-9F5D-44C34D863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2B70-1254-4B38-9818-F80DB99AC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C94-ABE5-4D70-B01F-72E1CD46F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AC38-85BB-4316-B47A-90BD8503C2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6B6-2BCC-48C6-B693-070949C9F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0FF-444C-45C4-8933-4A1B67C24C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001-788E-472A-A6CD-5D750E51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A40-7688-4E2B-97A9-4B466DA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CB9-C279-49A9-A43A-F7587EFD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324-51EF-437B-B106-B3EC4CC3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453-9001-4268-A9D3-55959FA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369-E2CF-47EC-9C80-2690D41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0AB-4FC0-43C3-953C-CD2A485F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3F4-BA9C-45F8-8977-033BF72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775-F40B-4715-8BAE-6C012BF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EC9-711C-4A92-A7CE-E69C13B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782-42B6-4063-B9A9-07C4C73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AF0-E644-4D39-9975-27D2ACB6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2F2-2A30-41A9-8B46-041CD7282BF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50C-56CE-4AC9-B0C6-B43D654C1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509760"/>
            <a:ext cx="8756640" cy="29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4-H STUDY OF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OSITIVE YOUTH DEVELOPMENT: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5560" y="3962160"/>
            <a:ext cx="8218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M. Lerner, Jacqueline V. Lerner, Erin Phelps, and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e for Applied Research in Youth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ufts University, Medford,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6C5-A4F2-47A1-AD47-41CA9E225E8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F05-41C3-4450-A0CC-1D6DCCCBC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6631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ngitudinally studying these new student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nimum of three times of measurement are needed to judge developmental change.  We are reporting for the first time the results from three times of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we have sampled more than 5,000 youth from 37 states and more than 2,000 par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D76-C130-4EDA-900F-AA96E394DC3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AF8A-AF3C-4773-A526-2D09808F87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600" y="1278000"/>
            <a:ext cx="834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omparative purposes, our sample includes 4-H youth and non-4-H youth.  These groups of youth differ in sever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judge the differences between 4-H youth and other youth we need to create a matched sub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, this limits our ability to apply the findings to all 4-H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CD1-BC47-4719-AEAB-C0F48603486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D79-1B40-49C8-9B0F-8DD9670E9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6200" y="1707840"/>
            <a:ext cx="802944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the potential to change, all youth have streng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ontexts have strengths as well.  These strengths are resources that may be used to promote positive youth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resources are termed “developmental assets”:  They are the “social nutrients” needed for healthy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ACB-9EF9-4CFD-A8D5-240FE19070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153-E280-4F03-97ED-7DE130B692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6200" y="1781280"/>
            <a:ext cx="80294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s of youth are combined with ecological developmental assets. Then, these assets are found in families, schools, faith institutions, youth serving organizations, and the community more gen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ositive, healthy development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may be optimistic that it is in our power to promote positive development among all y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5BE-BC78-4299-8DC9-F4C757D2A23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52C-AC1E-4452-BC23-ABA9D355A1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1.  PYD is constituted by “Five Cs: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5960" y="2468520"/>
            <a:ext cx="2955960" cy="326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ve 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6200000">
            <a:off x="4052880" y="3333240"/>
            <a:ext cx="960120" cy="690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78400" y="3313080"/>
            <a:ext cx="242100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EE62-1A98-4160-967A-23C09EB5925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DDB-2E8A-4092-890D-0881FA6A9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3320" y="549000"/>
            <a:ext cx="84884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Five Cs are Related to the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“Four Essential Elements”</a:t>
            </a:r>
            <a:r>
              <a:rPr b="1" lang="en-US" sz="4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0040" y="1904760"/>
            <a:ext cx="7805520" cy="45939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228600" bIns="13716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s of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4 Essenti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As presented by Dr. Cathann Kres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2E0-5DF6-4AC3-A3BA-C6210C1E99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7CD-8AA5-4F3B-BB0C-AB3CF435C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5960" y="1393560"/>
            <a:ext cx="74880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ross adolescence, positive youth development occurs (that is, youth “thrive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rengths of young people are aligned with the resources for healthy development (“developmental assets”) present in their comm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F4EB-23E6-4BA1-8E65-A0ABFE68A32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072-B5A4-41D3-95AE-BEDF00E20F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2640" y="1600200"/>
            <a:ext cx="73868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th Development (YD) programs constitute key developmental assets promoting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3429000"/>
            <a:ext cx="7848720" cy="272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D programs are marked by the presence of the “Big 3,”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ustained, positive adult-youth rel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kill building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and Youth participation and lead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C18-72F7-454E-B0CD-F3FA52866E5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645-9802-4185-88AA-372E7A4F9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tems for discussion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and participant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support from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support for participating cou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place where faculty and staff can access material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665A-C367-42DD-B390-0C0B6016F79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3562-D9B3-4E22-8F7C-B6C87CE9A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ite and Participant Recruitment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age – 9-12th g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H and non-4-H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 who will work with you to secure parent consent and administer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consent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line option is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ufts find them in a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D5C7-D6DD-4BE0-B082-8E8D81B0EAE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3B1A-03E4-4C5A-865A-340AB0FEC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ufts Suppo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 sessions for data collectors – &lt;dat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kit of materials including: sample IRB forms, correspondence, news releases and 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and e-mail for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of producing the data collection materials can be reimbu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84A-BA94-46FE-8331-623CF3B4784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9DC-596A-477C-A4ED-BE05D482C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 $$$$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$ incentive from your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location of form to fill out to receive money from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-you gift from Tuf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0 gift credit with Amazo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year sites will be paid $50 by Tu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2nd year or bey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y number of surveys sub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3792-E06A-4697-98B6-7D897EC5F0B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420-D041-4684-9339-00024DFCD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a Collection Exp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vailable for face-to-face data coll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rack of copies produced and request reimbursement for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Student Questionnaires &lt;40&gt; pages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Consent Forms – 4 pages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Youth Assent Forms – 1 page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letters – 2 pages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Additional printing – itemize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age expenses will be reimbursed by Tuf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ther expenses will be reimbursed without prior approval from Tu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FA8-652D-4ECB-97AD-56BF74B83C4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2B23-63EC-412E-96C6-8139283DD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 – site recruitment, eI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s are ready: &lt;location where templates can be found&gt;, or on the National 4-H Brand Network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letter of permission, set dates for administration, request needed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complete administration and submi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09 – &lt;state&gt;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87F-E7BD-48DB-A9FA-FE6D1BC45CE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2214-72A2-482C-A100-552BB06114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por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t up statewide program with &lt;coordinator&gt; as Team Leader and data collectors as Team Memb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heduling function to show planned sites/d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F5CE-5129-44CF-AD32-E974DEEE9E8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7AF-9990-40DE-B8FF-84EAC3549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 longitudinal study:  Youth are followed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ning in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, we are following some youth through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 (and we hope past high sch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djust for youth who drop out of the study and to maintain our ability to conduct powerful statistical analyses, we have added new students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11:43Z</dcterms:created>
  <dc:creator>Temp</dc:creator>
  <dc:description/>
  <dc:language>en-US</dc:language>
  <cp:lastModifiedBy>scheermb</cp:lastModifiedBy>
  <dcterms:modified xsi:type="dcterms:W3CDTF">2008-12-11T15:35:31Z</dcterms:modified>
  <cp:revision>75</cp:revision>
  <dc:subject/>
  <dc:title>THE 4-H STUDY OF  POSITIVE YOUTH DEVELOPMENT: </dc:title>
</cp:coreProperties>
</file>